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20.png" ContentType="image/png"/>
  <Override PartName="/ppt/media/image2.jpeg" ContentType="image/jpeg"/>
  <Override PartName="/ppt/media/image3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3BF3-D0FD-4D2D-A4E3-53F43866E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E612-BB56-450D-855A-FD7E08FC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3EF2-3706-4314-8DBC-DA012731C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7D9A-26B3-4ADB-9B91-B0C4BDB6D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4760-8535-45A1-9DDB-6CC0A7A91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7E90-9028-4C69-AFA0-AC553DBC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8926-2AD5-481E-9B57-D9A3A2E4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BCD3-EC61-4E03-82B3-9F23D5C3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652C-4771-4FF9-B7F1-E13CE58D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2240-7598-4D52-B6C9-65002A3C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0325-1082-4793-9E49-4FD19217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00EE-69D5-46D8-BFB9-97CAE714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7DC0-2673-4567-8668-149B4E42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8ACA-311B-4215-8A12-09FA7FED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056CF-FD5D-453C-B525-E0BA3789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AE61-C227-4D39-821B-44A74211A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07CF-9ECF-401D-9D3E-CC1B73717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3C95-6422-459F-B663-4EE9BD61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D4FB-D689-4CA5-B7B0-87762B2D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7952-566B-45E6-9F21-F12AA5F0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5F59-B4EF-4C39-B4AE-67CDD705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E4A5-1F70-45F0-8C67-71DEABCF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D5E8-D27D-4F26-9DFD-2590F79F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9314-F332-4100-9775-8E4E2CCF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56F0-F4A1-4CC5-889E-1ABF44005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7A55-3779-44DC-8FB3-9969DA998A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hyperlink" Target="http://teachpol.tcnj.edu/amer_pol_hist/thumbnail125.html" TargetMode="External"/><Relationship Id="rId4" Type="http://schemas.openxmlformats.org/officeDocument/2006/relationships/image" Target="../media/image2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Chapter 13: The Rise of a Mass Democracy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24-18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arison of Election of 1824 v. 1828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your spiral, draw a line down the middle of the pa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el one box “The Election of 1824” and one “The Election of 1828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the articles provided, fill in details about each election. Should inclu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milar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er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ption of Candid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mpaign Tact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n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esting Fa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poils Syste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crats replaced most of the people in offices w/ their own people (the common man)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literate and incompetent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spoils system”- rewarding political supporters w/ jobs in the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mented party loyal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ariff of Abominat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824, Congress increased the general tariff significantly (37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ariff of 1828- "Black Tariff”, “Yankee Tariff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ted by Southern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remely high tariff; they felt it discriminated against the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th having economic struggles &amp; tariff was a scapego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John C. Calhoun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ce Presid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South Carolina Exposi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tariff was unfair and should be nullified in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ave rebellion, 1822- Denmark Ves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es further than Kentucky &amp; Virginia Resolu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1465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ullification Crisis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447560"/>
            <a:ext cx="8159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riff of 1832- slightly lower tariff; fell short of South's dema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umbia Convention- tariff to be void w/in South Carolin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riff of 1833- called for gradual reduction of the Tariff of 1832 by about 10% over 8 years.  (Henry Clay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ed the dispute over the Tariff of 183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ed by South Carolina but not by  other states of So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rail of Tear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stward expa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herokee Nation v. State of Georgia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Civilized tribes sued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right to their land in Georg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rokees, Creeks, Choctaws, Chickasaws, and Semino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rokees won ca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ident Jackson responded “John Marshall has made his decision; now let him enforce i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Content Placeholder 4" descr="tears.jpg"/>
          <p:cNvPicPr/>
          <p:nvPr/>
        </p:nvPicPr>
        <p:blipFill>
          <a:blip r:embed="rId1"/>
          <a:stretch/>
        </p:blipFill>
        <p:spPr>
          <a:xfrm>
            <a:off x="0" y="0"/>
            <a:ext cx="243828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rail of Tear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an Removal Act of 1830- forced Indian tribes west of the Mississipp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 was Trail of T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cible removal of Native Americ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zing weather &amp; inadequate 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ack Hawk resisted evac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minoles fought for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2514600" y="380880"/>
            <a:ext cx="4470480" cy="3353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2895480" y="3848040"/>
            <a:ext cx="38102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ank Wa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ckson despised ba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cholas Biddle: president of the bank of the 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ckson vetoed bill to recharter Bank of the 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ckson felt that executive branch had more power than judicial branch in determining constitutionality of ba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ion of 183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minating conventions were held to pick political party candid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 Republican: Henry Cla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crat: Jacks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-Masonic Party (Third Party): William Wi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ner: Jack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“Corrupt Bargain” of 1824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ion of 18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were 4 candidates: Andrew Jackson, John Quincy Adams, William Crawford, &amp; Henry Cl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cratic Republican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candidate won the majority of the vot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2286000" y="304920"/>
            <a:ext cx="54673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urying the Ban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ckson withdrew federal funds &amp; placed money in pet ban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dcat currency in the w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e Circ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ibuted to Panic of 183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6643800" y="2971800"/>
            <a:ext cx="250020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Birth of the Whig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cratic-Republican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emocr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ng Andrew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g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position to monarc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led for internal impr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imed to be defenders of common 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lared democrats corrup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ion of 1836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90476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ocratic candida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tin van Bu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ral Whig candid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d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iam Henry Harr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tin van Bure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me 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resid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4648320" y="1676520"/>
            <a:ext cx="42494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anic of 1837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ulation: get-rich quickism- “land office business” on borrowed capit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cksonian Finan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nks collapsed, commodity prices dropped, jobs were lost, &amp; sale of public lands fe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dependent Treasury Bill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taining gov. funds independent of national bank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one to Tex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xico won independence from Spain- 182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nted land to Stephen F. Austin to bring families to Tex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xas &amp; Mexico had many dif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av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anta Anna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resident of Mexic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ped out local rights, raised army to suppress Texa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788240" y="0"/>
            <a:ext cx="1355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Lone Star Rebellion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xas declared independence in 183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 Houston- commander in chi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e Star flag unvei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nta Anna defeated Texans at Alamo &amp; Golia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Content Placeholder 4" descr="Lone_Star_Flag_1-8-05.jpg"/>
          <p:cNvPicPr/>
          <p:nvPr/>
        </p:nvPicPr>
        <p:blipFill>
          <a:blip r:embed="rId1"/>
          <a:stretch/>
        </p:blipFill>
        <p:spPr>
          <a:xfrm>
            <a:off x="2819520" y="4267080"/>
            <a:ext cx="1906560" cy="2362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" descr="remember the alamo.jpg"/>
          <p:cNvPicPr/>
          <p:nvPr/>
        </p:nvPicPr>
        <p:blipFill>
          <a:blip r:embed="rId2"/>
          <a:stretch/>
        </p:blipFill>
        <p:spPr>
          <a:xfrm>
            <a:off x="5638680" y="4267080"/>
            <a:ext cx="304812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one Star Rebellion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ttle of San Jaci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nta Anna crushed &amp; forced to sign trea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ed host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the Republic of Tex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xas wanted to become state in 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therners disagr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ave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0" name="Content Placeholder 4" descr="United_States_1838-1842.png"/>
          <p:cNvPicPr/>
          <p:nvPr/>
        </p:nvPicPr>
        <p:blipFill>
          <a:blip r:embed="rId1"/>
          <a:stretch/>
        </p:blipFill>
        <p:spPr>
          <a:xfrm>
            <a:off x="533520" y="609480"/>
            <a:ext cx="8305560" cy="56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ion of 1840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tin van Buren: Democr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iam Henry Harrison: Whig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hn Tyler- Vice Presidential Candi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ippecanoe and Tyler Too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 cabins &amp; cid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iam Henry Harrison elected presid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905120" y="5181480"/>
            <a:ext cx="1409760" cy="14479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3" name="Object 2"/>
          <p:cNvGraphicFramePr/>
          <p:nvPr/>
        </p:nvGraphicFramePr>
        <p:xfrm>
          <a:off x="457200" y="3733920"/>
          <a:ext cx="3927600" cy="28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733920"/>
                    <a:ext cx="3927600" cy="28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5" name="Picture 3" descr="Map of the Presidential Election of 1824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438280" y="228600"/>
            <a:ext cx="4800600" cy="352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Object 3"/>
          <p:cNvGraphicFramePr/>
          <p:nvPr/>
        </p:nvGraphicFramePr>
        <p:xfrm>
          <a:off x="4495680" y="3813120"/>
          <a:ext cx="4267440" cy="2833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813120"/>
                    <a:ext cx="4267440" cy="28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6" name="Content Placeholder 4" descr="1840 election.gif"/>
          <p:cNvPicPr/>
          <p:nvPr/>
        </p:nvPicPr>
        <p:blipFill>
          <a:blip r:embed="rId1"/>
          <a:stretch/>
        </p:blipFill>
        <p:spPr>
          <a:xfrm>
            <a:off x="914400" y="914400"/>
            <a:ext cx="769788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wo-Party Syste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major changes in politics (after Era of Good Feeling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man moving to political main st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Aristocracy not well-lik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-Party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cc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ocrats (liberty of individual, states’ righ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cc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gs (community, national bank, tariffs, abolition of slavery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upt Bargain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ision went to House of Representa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nry Clay encouraged members to vote fo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da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y becomes secretary of st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upt Bargain” b/c Jackson received most electoral and popular vot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John Quincy Adam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wer than 1/3 of voters had voted for hi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of the most successful secretaries of state, least successful presi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 of support from Cong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is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220px-John_Quincy_Adams_-_copy_of_1843_Philip_Haas_Daguerreotype"/>
          <p:cNvPicPr/>
          <p:nvPr/>
        </p:nvPicPr>
        <p:blipFill>
          <a:blip r:embed="rId1"/>
          <a:stretch/>
        </p:blipFill>
        <p:spPr>
          <a:xfrm>
            <a:off x="7275600" y="4267080"/>
            <a:ext cx="18684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ion of 1828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pa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Republicans- Adams &amp; Cl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cratic Republicans- Jacks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dsling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ckson portrayed as hero &amp; frontiersmen/ common 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ams portrayed as corrupt aristocra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udslinging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l Jackson’s mother was a Common Prostitute, brought to this country by the British soldiers! She afterwards married a mulatto man with whom she had several children, of which number General Jackson is one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ion of 1828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ckson won both popular &amp; electoral vo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ckson suppor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th &amp; W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ams suppor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QA goes on to ser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House of Rep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Content Placeholder 5" descr="20080625232150!1828_Electoral_Map.png"/>
          <p:cNvPicPr/>
          <p:nvPr/>
        </p:nvPicPr>
        <p:blipFill>
          <a:blip r:embed="rId1"/>
          <a:stretch/>
        </p:blipFill>
        <p:spPr>
          <a:xfrm>
            <a:off x="4572000" y="2666880"/>
            <a:ext cx="4038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Old Hickory” as President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president from w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nominated at formal party con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w/o college education (Washington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ntier aristocr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ned sla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a of Common M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5" descr="jackson-senate"/>
          <p:cNvPicPr/>
          <p:nvPr/>
        </p:nvPicPr>
        <p:blipFill>
          <a:blip r:embed="rId1"/>
          <a:stretch/>
        </p:blipFill>
        <p:spPr>
          <a:xfrm>
            <a:off x="6324480" y="3943440"/>
            <a:ext cx="24084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4T21:33:33Z</dcterms:created>
  <dc:creator>emily.johnson</dc:creator>
  <dc:description/>
  <dc:language>en-US</dc:language>
  <cp:lastModifiedBy>emily.johnson</cp:lastModifiedBy>
  <dcterms:modified xsi:type="dcterms:W3CDTF">2012-11-06T21:25:28Z</dcterms:modified>
  <cp:revision>11</cp:revision>
  <dc:subject/>
  <dc:title>Chapter 13: The Rise of a Mass Democracy</dc:title>
</cp:coreProperties>
</file>